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119-5BBC-4DFE-869E-106A2C7B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192-9770-43D8-A30C-2D9D737A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622-24D8-47D3-AFF2-0E382F0D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BF0-6CF3-40FE-90A1-E947D3F4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CFA5-53D3-4713-9226-45D2B208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6F3D-90B3-405E-927D-8E18FFB9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AF07-3C7B-4E93-A230-6EF02FA1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D634-81B9-487B-8289-84A3A869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A80D-2326-4865-A9FD-D3B4F829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EB71-9474-4C46-AB0C-6720458B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10EF-DE18-4321-AB40-A78EC97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252-3EF8-4B81-AB82-0A829829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8A89-477F-4DA4-9306-02CC712E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7820-469A-4E3D-92A6-C7F0709A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941B-5CDD-4DA9-83A6-46FBD9E9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68A3-D0A4-48E6-A97E-10B385C9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93D8-3132-4BB1-8E59-F717BAB6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BC962-B8C7-4D59-A752-89A50004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B7BB7-3808-4222-A9C8-B657EAE8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BAB3-ED5A-47A8-BCF0-3ED362B7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A9B4-0578-4159-AA7B-1F94BB72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DC51A-2E6B-4A4D-8F02-B434CB97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506-4ACC-4A82-8824-C47C354F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4E41-5F05-46C7-8820-12D47F2B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15E4-A1BD-4D52-B6BE-9CD34B1E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2CD02-ADEB-4739-AD13-A3B4BDC9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A3B1-6BAA-42FB-82CA-D1909CA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EAB0-3DBF-4BDD-827A-5F23152D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D4BC-4E89-4306-8811-012FA46D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D743-22D5-442B-BEBE-EB14425D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AAC5-0CA5-4F61-B5F1-74F24DD8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5F18-D4BB-4C0E-AA93-4442D6B1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2FE34-3A85-4DD0-8372-45A6B59C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7FC-84D4-4B40-8237-37DAFB28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91085-3B1D-4C4D-848A-67B694B0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02CEC-3B15-486D-9829-DBD47639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D3E62-6663-427D-8AE3-772CC43C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BF21-4E52-4D0E-9359-61A1570C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1DCF-AB71-4A9D-9AFB-4E005A16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338D-B643-4F1F-904D-234D70C7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A986-39B0-4621-90EC-4A1BCBA1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8F4B7-5980-4F33-BBB7-496D4AA9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A31CB-E84B-42C6-9BBB-0885B286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3C821-0CAA-49B7-8574-72C2B412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C7E-5A12-4003-A8A8-9B76BBC1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1CCB-DEC6-4D13-A7FD-3F0F6C9D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20ABA-59C8-4D69-B8F0-87283BBC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9A8EC-9E5D-4291-9A11-FBBA13C7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3C534-393E-4A47-B34F-A95621E9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6F15C-C646-4C1E-A5FD-5EF23829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5335-9EEE-4C26-BD23-0F834ED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C65FC-F5EE-4ECA-9F32-914EAE76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6FCC-E8B4-4798-BD26-EA46DEE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DDB53-CC0E-4045-9682-2452456A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C00D-D5FB-4FAC-8482-6EDE504E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3B9-A2A0-4BB1-81CA-1E43F997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3B7FF-F01D-4157-9179-0AC314F3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3FC-466B-4379-97E5-8000C2AB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260-AB06-4950-9286-8BD10CD7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6B2-09A6-4112-A0D9-1D983886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F9D8-B0AF-4D5A-8395-4B291BB52B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57AA-D8FC-47C2-80BD-9A81DD3DB01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ADEB-E069-4F2F-B787-03A8CDAEF3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D6CE-5520-45C8-8D1D-BC463C510AD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03CC-A844-4F68-842B-6A878E04F16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litva.ru/" TargetMode="External"/><Relationship Id="rId3" Type="http://schemas.openxmlformats.org/officeDocument/2006/relationships/hyperlink" Target="http://www.liveinternet.ru/" TargetMode="External"/><Relationship Id="rId4" Type="http://schemas.openxmlformats.org/officeDocument/2006/relationships/hyperlink" Target="http://www.zoovet.ru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Отряды пти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200400" y="3505320"/>
            <a:ext cx="4572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Л. И. Наб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 СОШ №80 им. В. П.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п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общую характеристику отрядов птиц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-отряд Дневные хищные пт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-отряд Сов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-отряд Ку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-отряд Воробьин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-отрядАист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упление с характеристикой признаков указанного отряда, заполнить таблицу в рабочей тетр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7940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447920"/>
          <a:ext cx="8229600" cy="512100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5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533520"/>
          <a:ext cx="8077320" cy="60213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умеренной длины, у большинства с острыми когтями. Клюв крючковидный, изогнут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треб, сокол, гри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ороткие или умеренно длинные, наружный палец может быть обращен и впереди и назад. Надклювье загнутое, с острыми кра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а, пустыни, тундра, го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н, ушастая сова, домовой сыч, сипух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средней длины, ильные; крылья короткие, широкие; летают тяжело. Клюв короткий, сильный; надклювье слегка загнуто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и, леса, пустын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к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ев, фазан, индейка, куропатк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гах первый палец обращен назад. строение крыльев и клюва разнообраз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, дрозд, ласточка, синица, жаворон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е ноги, гибкая длинная шея, маленькая голова, Клюв удлиненный, заостренный. Перьевой покров рыхлый, крылья относительно большие, широкие. Хвост коротки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пля рыжая, выпь малая, аист бел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2" name="Rectangle 134"/>
          <p:cNvSpPr/>
          <p:nvPr/>
        </p:nvSpPr>
        <p:spPr>
          <a:xfrm>
            <a:off x="30492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вучить видеозапись представителей отрядов в виде монолога животного, указав признаки, распространение, образ жизни, голос данного представ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ел степ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а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х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ек пол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 большая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россворд «Птицы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изонтали: 1. Мелкий представитель воробьинообразных. 2. Нелетающая, но хорошо плавающая и ныряющая птица. 3. Вид дро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Крупная нелетающая птица. 6. Птица из отряда воробьинообразных, в песне которой слыш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Ты Витю видел?». 8. Представитель воробьинообразных, мельче воробья. 9. Крупный дневной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0. Представитель воробьинообразных, прекрасный певец. 16. Вид крупных говорящих попуг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 Птица из семейства вьюр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вертикали: 4. Птица — дневной хищник. 6. Мелкая утка. 7. Яркоокрашенный представитель курообразных. 8. Птица из отряда воробьинообразных. 11. Представитель вр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2. Синица, вьющая гнездо из пуха в виде «варежки». 13. Мелкая сова.  15. Крупная морская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какие из этих птиц действительно могут поселиться в сквореч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кроссвор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изонтали: 1. Воробей. 2 . Пингвин. 3. Рябинник. 5. Страус. 6. Чечевица. 8. Пищуха. 9. орел. 10. соловей. 14. Скворец. 16. Ара. 17. Чи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вертикали: 4. Ястреб. 6. чирок. 7. Фазан. 8. пеночка. 11. ворон. 12. Ремез. 13. Сыч. 15. Буревес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 воробей, пищуха, скворец, пен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икторина «Живые синонимы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 в русской речи мы используем слова-синонимы, которые могут отразить и характер человека, внешний вид, особенности передвижения, особенности разговора. Например, мы говорим «топаешь как медведь», «это и ежу понятно», «голодный как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какими птицами сравнивают человека, когда говор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Щебечет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Ворковать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Шипеть,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Накаркать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Долбить (говорить одно и то же)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Надутый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Плыть (идти плавно)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тветы на вопросы викторин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Г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В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Дят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Инд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 интересно было сегодня работат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узнали нового и интерес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WordArt 4"/>
          <p:cNvSpPr txBox="1"/>
          <p:nvPr/>
        </p:nvSpPr>
        <p:spPr>
          <a:xfrm>
            <a:off x="1295280" y="22860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ведём  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многообразие птиц различных отря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особенности строения птиц, связанные с образом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овать роль птиц в природе и хозяйственной деятельности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ть находить известных птиц на рисунках, фотографиях, таблицах, находить необходимую информацию в тексте, электронном пособ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Латюшин В. В., Шапкин В. А. Биология. Животные: Учебник для 7 кл. общеобразоват. учеб, заведений. - М.: Дрофа, 2008 - 304 с.: и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. Латюшин В.В. Биология. Животные 7 класс Тематическое и поурочное планирование к учебнику В.В. Латюшина и В.А.Шапкина «Биология. Животные»: Пособие для учителя 2-е изд.,стереотип-М.: Дрофа, 2003-193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И.Ф. Ишкина Биология. 7 класс. Поурочные планы по учебнику В.В. Латюшина и В.А.Шапкина. Издательство «Учитель АСТ», Волгоград 2002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Анашкина Е.Н. Кроссворды для школьников. Биология.- Ярославль.6 «Академия развития», 1997.-128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Алексеев В.А. 300 вопросов и ответов о животных. –Ярославль: Академия развития, 1997.-240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Мультимедийный справочник-определитель. Животный мир России. Птицы. Европкйская Россия, Урал, Западная Сибирь//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O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Авторы: В.К. Рябицев, О.Д. Вепринцева, Н.Ю. Киселева, А.А. Мосалов, Н.П. Овсянникова,  С.А. Букреев, О.В. Безюмки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Фото Императорский пингвин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alitva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Фото Африканский страус //subaryata.org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Фото Американский нанду// alexsh16.livejournal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Фото Казуар// vbkfzrjitxrf.beon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Фото Серый гусь// en.academic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Фото Казарка краснозобая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veintern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Фото Лебедь шипун //zoopar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Фото Орел степной// pesi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Фото Сова белая// fotki.yandex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Фото Глухарь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zoov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ото Конек полевой //lifecity.com.u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Фото Цапля большая белая// www.omskhunter.com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Задани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те рисунки птиц разных отрядов. Выполните следующие зад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название птицам, изображённым на фо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отряды, к которым относятся данные пт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признаки отряда. (по выбор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из них занесены в красную книгу Новосибирской обла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8" descr="http://im4-tub.yandex.net/i?id=108655168&amp;tov=4"/>
          <p:cNvPicPr/>
          <p:nvPr/>
        </p:nvPicPr>
        <p:blipFill>
          <a:blip r:embed="rId1"/>
          <a:stretch/>
        </p:blipFill>
        <p:spPr>
          <a:xfrm>
            <a:off x="6477120" y="1828800"/>
            <a:ext cx="2074680" cy="196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http://im0-tub.yandex.net/i?id=6145330&amp;tov=0"/>
          <p:cNvPicPr/>
          <p:nvPr/>
        </p:nvPicPr>
        <p:blipFill>
          <a:blip r:embed="rId2"/>
          <a:stretch/>
        </p:blipFill>
        <p:spPr>
          <a:xfrm>
            <a:off x="6770520" y="4495680"/>
            <a:ext cx="1748160" cy="213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1" descr="http://im8-tub.yandex.net/i?id=11458522&amp;tov=8"/>
          <p:cNvPicPr/>
          <p:nvPr/>
        </p:nvPicPr>
        <p:blipFill>
          <a:blip r:embed="rId3"/>
          <a:stretch/>
        </p:blipFill>
        <p:spPr>
          <a:xfrm>
            <a:off x="2514600" y="44956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i?id=99095301&amp;tov=4"/>
          <p:cNvPicPr/>
          <p:nvPr/>
        </p:nvPicPr>
        <p:blipFill>
          <a:blip r:embed="rId4"/>
          <a:stretch/>
        </p:blipFill>
        <p:spPr>
          <a:xfrm>
            <a:off x="320040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8"/>
          <p:cNvSpPr/>
          <p:nvPr/>
        </p:nvSpPr>
        <p:spPr>
          <a:xfrm>
            <a:off x="12193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40384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73915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990720" y="418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3"/>
          <p:cNvSpPr/>
          <p:nvPr/>
        </p:nvSpPr>
        <p:spPr>
          <a:xfrm>
            <a:off x="31240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5"/>
          <p:cNvSpPr/>
          <p:nvPr/>
        </p:nvSpPr>
        <p:spPr>
          <a:xfrm>
            <a:off x="5334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73915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1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6" descr=""/>
          <p:cNvPicPr/>
          <p:nvPr/>
        </p:nvPicPr>
        <p:blipFill>
          <a:blip r:embed="rId6"/>
          <a:stretch/>
        </p:blipFill>
        <p:spPr>
          <a:xfrm>
            <a:off x="457200" y="4495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8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азуар. Отряд Казуа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Лебедь шипун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Африканский страус. Отряд Страус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Казарка краснозобая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ерый гусь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Императорский пингвин. Отряд Пинг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Американский нанду. Отряд Нанду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те рисунок. Выполните следующие зад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название птице, изображённой на ф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ть отряд, к которому относится данный ви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?id=11231&amp;tov=6"/>
          <p:cNvPicPr/>
          <p:nvPr/>
        </p:nvPicPr>
        <p:blipFill>
          <a:blip r:embed="rId1"/>
          <a:stretch/>
        </p:blipFill>
        <p:spPr>
          <a:xfrm>
            <a:off x="914400" y="129528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i?id=86208267&amp;tov=3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i?id=35598883&amp;tov=4"/>
          <p:cNvPicPr/>
          <p:nvPr/>
        </p:nvPicPr>
        <p:blipFill>
          <a:blip r:embed="rId3"/>
          <a:stretch/>
        </p:blipFill>
        <p:spPr>
          <a:xfrm>
            <a:off x="609480" y="42670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i?id=23074610&amp;tov=2"/>
          <p:cNvPicPr/>
          <p:nvPr/>
        </p:nvPicPr>
        <p:blipFill>
          <a:blip r:embed="rId4"/>
          <a:stretch/>
        </p:blipFill>
        <p:spPr>
          <a:xfrm>
            <a:off x="3429000" y="42670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?id=3198956&amp;tov=3"/>
          <p:cNvPicPr/>
          <p:nvPr/>
        </p:nvPicPr>
        <p:blipFill>
          <a:blip r:embed="rId5"/>
          <a:stretch/>
        </p:blipFill>
        <p:spPr>
          <a:xfrm>
            <a:off x="60958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11430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8098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8580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5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828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791320" y="914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86728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группа- Орел степной. Отряд Дневные хищные птицы (Соколообраз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группа- Сова белая. Отряд С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группа- Глухарь. Отряд Кури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группа- Конек полевой. Отряд Воробьин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группа- Цапля большая белая. Отряд Аист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4-10T15:0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